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4ACC9-0B7D-416E-8682-8C9753729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4DCD6-3874-4D8A-9E0F-E3FDA2FD2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162A9-C713-4676-A370-8DBC9A371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B6458-2117-4B0F-9C8B-987FDD9E5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C7870-A69D-410C-9C02-B97E61BF2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80D7D-8007-4E1E-AE6D-8A530ED0B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EBFC1-152D-4163-ACD3-5303611C9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0BC95-7A03-4FCA-A172-7625E17E3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C9942-80EE-4931-B25D-BBCA73170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79D3C-951D-4A7F-9A3D-4A3F221F9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59686-45C6-4593-A140-17421E672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8787A-A82F-4137-B5EE-3ED4E2348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CF20C-8A90-45F4-88FF-3BF3EE744E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3203640" y="3141720"/>
            <a:ext cx="27907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Aboriginal Flag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79280" y="6237360"/>
            <a:ext cx="3816360" cy="35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By David Shortis 9P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slow" advTm="1000"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50000">
              <a:srgbClr val="000000"/>
            </a:gs>
            <a:gs pos="100000">
              <a:srgbClr val="ff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rold Thomas designed the Aboriginal Flag in 197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rold Thomas was also an artist and an Aborigi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611280" y="260280"/>
            <a:ext cx="756288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Who Made The Aboriginal Flag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slow" advTm="5000">
    <p:wheel spokes="3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The Black represents the Aboriginal peop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The Yellow is the sun, the giver of lif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The Red is the Earth and their spiritual relationship to the l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684360" y="333360"/>
            <a:ext cx="757224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What Does The Colours Mean?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slow" advTm="5000">
    <p:wheel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In the late 1960s, Aborigines were protesting for land righ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he protests increased in the early 1970s, Harold Thomas noticed they were often outnumbered by non-Aborigines with their own banners and placar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He decided they needed to be more visible and the idea of the flag was born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684360" y="549360"/>
            <a:ext cx="7619760" cy="6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cap="rnd" w="19080">
                  <a:solidFill>
                    <a:srgbClr val="ffff00"/>
                  </a:solidFill>
                  <a:custDash>
                    <a:ds d="100000" sp="1000"/>
                  </a:custDash>
                  <a:miter/>
                </a:ln>
                <a:solidFill>
                  <a:srgbClr val="000000"/>
                </a:solidFill>
                <a:latin typeface="Times New Roman"/>
              </a:rPr>
              <a:t>Why did Harold Thomas Design the Flag?</a:t>
            </a:r>
            <a:endParaRPr b="0" lang="en-US" sz="1800" spc="1" strike="noStrike">
              <a:ln cap="rnd" w="19080">
                <a:solidFill>
                  <a:srgbClr val="ffff00"/>
                </a:solidFill>
                <a:custDash>
                  <a:ds d="100000" sp="1000"/>
                </a:custDash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</p:spTree>
  </p:cSld>
  <p:transition spd="slow" advTm="5000">
    <p:checke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boriginal flag was first raised in Victoria Square in Adelaide on National Aboriginal Day in 197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n it was adopted nationally by the Aborigines and Torres Strait islanders in 197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755640" y="260280"/>
            <a:ext cx="7416720" cy="932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When was it first raised?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slow" advTm="5000">
    <p:zoom dir="in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539640" y="4941360"/>
            <a:ext cx="8229600" cy="17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athy Free man winning gold one year and holding both flag the Australian and Aboriginal flag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268360" y="476280"/>
            <a:ext cx="4789800" cy="3809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 txBox="1"/>
          <p:nvPr/>
        </p:nvSpPr>
        <p:spPr>
          <a:xfrm rot="5400000">
            <a:off x="-872640" y="2248560"/>
            <a:ext cx="4335480" cy="6476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Arial Black"/>
              </a:rPr>
              <a:t>Cathy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5" name=""/>
          <p:cNvSpPr txBox="1"/>
          <p:nvPr/>
        </p:nvSpPr>
        <p:spPr>
          <a:xfrm rot="5400000">
            <a:off x="5759640" y="2169360"/>
            <a:ext cx="4608360" cy="6476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Arial Black"/>
              </a:rPr>
              <a:t>Freeman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slow" advTm="5000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01:42:13Z</dcterms:created>
  <dc:creator>Reservoir District Secondary College</dc:creator>
  <dc:description/>
  <dc:language>en-US</dc:language>
  <cp:lastModifiedBy>DE&amp;T User</cp:lastModifiedBy>
  <dcterms:modified xsi:type="dcterms:W3CDTF">2008-06-06T01:29:48Z</dcterms:modified>
  <cp:revision>4</cp:revision>
  <dc:subject/>
  <dc:title>Slide 1</dc:title>
</cp:coreProperties>
</file>